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446-B419-4D50-82CE-77D41C5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C0F-AB1E-4F26-9B09-12D5A89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A33-89B2-4158-9D55-47A6A006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6ED-3CDE-468C-8834-212DD6D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6604-237B-486D-B8AB-5D9D3646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341-4141-446B-86B0-48636DD4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3A5-548C-40D2-BF5F-B00C006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6F76-57DE-470C-969E-5B432536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D99-D545-4EC9-B56C-B5B58111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C146-84C3-4071-B517-D21B593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3D1D-8A5D-4B2C-ABA4-D721364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B2C-AA9C-41B8-97A4-8EB551B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C31-4DD9-464F-98D5-E56E943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885B-FDED-40B9-AC44-6331932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D33B-55C1-456D-B41C-CF49CE8D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CBD-E505-4ECB-8564-61D99F1A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3E5-CECC-4AEA-BD99-7E4CD0A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2CB-AE7E-4AB9-85EF-6A5DB3E0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8BA-86DF-4ACD-8963-09C02671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A98-316C-478E-AE45-CBDC965F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A4A-C588-4AEB-9299-0E058BF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638-6D37-4CA6-8B1A-2914D6C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580-C94E-4689-9599-16F92D1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690-200D-43C9-B294-73CDA09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CB336-3A12-474A-AAF1-8992FC14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5EFB-7AF6-4406-A714-68735870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Preview Questions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411480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is an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parable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story that makes a clear point, or teach a lesson, without actually stating the point outrigh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milar to an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ile the book is being read, think about these two question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makes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he Butter Battle Book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rable?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point do you think Dr. Seuss is making with this story?  (He wrote it in 1984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do walls represent in society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 walls represent when they form a border between two countrie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es the wall in the book represent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happens to the wall during the course of the book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In what ways is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 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a parable of the Cold War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on between the two countries for the most powerful weap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division between the two countries over a very basic (though in this case silly) ide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science in leading towards greater destruc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patriotism (the Butter-Up band and the cheerleaders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 the name of the final weapon (the “Bitsy Big-Boy Boomeroo”) is a play on the bombs dropped on Japan (“Fat Man” and “Little Boy”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1:58:02Z</dcterms:created>
  <dc:creator/>
  <dc:description/>
  <dc:language>en-US</dc:language>
  <cp:lastModifiedBy/>
  <cp:revision>1</cp:revision>
  <dc:subject/>
  <dc:title/>
</cp:coreProperties>
</file>